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73C0C-171B-4E3E-A3A7-BFA9D707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D709E-F99A-43A1-9936-3E1F6244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CC5FC-E983-4FD6-94B3-D4F48FD2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FD286-5077-4D2D-95D0-FAF2B659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2376A-9264-4F8C-A917-930F953F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A17C6-330A-4D9B-8D61-E8625A97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FCAC4-4D3C-4340-8960-60518410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9F2B9-C64C-4444-876B-677B6434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09731-726E-4DA4-92CA-90647CED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5AADF-C83B-4C21-9FB7-D02EA40A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E0E55-05E1-44F0-8D62-6E25E396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16693-3E96-4D79-A357-7EE081F5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D24F-AC62-430F-984D-87E1DC641DE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0" y="1334880"/>
            <a:ext cx="441972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ahoma"/>
              </a:rPr>
              <a:t>Data Management Conformance (DMC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GA Tec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1295280"/>
            <a:ext cx="693396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9" name="datamanagement3" descr=""/>
          <p:cNvPicPr/>
          <p:nvPr/>
        </p:nvPicPr>
        <p:blipFill>
          <a:blip r:embed="rId2"/>
          <a:stretch/>
        </p:blipFill>
        <p:spPr>
          <a:xfrm>
            <a:off x="1143000" y="1479600"/>
            <a:ext cx="6324480" cy="3089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33520" y="-1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Each managed_data_item references one entity inst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50277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very entity instance in a model has a item-refernece added, doubling size of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1295280"/>
            <a:ext cx="563868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494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d Transa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563796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Data_import, data_export_modification, data_export_cre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137052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Transaction history of actions per data ite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338184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Who, what, when, whe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7" name="datamanagement2" descr=""/>
          <p:cNvPicPr/>
          <p:nvPr/>
        </p:nvPicPr>
        <p:blipFill>
          <a:blip r:embed="rId2"/>
          <a:stretch/>
        </p:blipFill>
        <p:spPr>
          <a:xfrm>
            <a:off x="1600200" y="1365120"/>
            <a:ext cx="54673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748640" cy="1068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2732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s Have Internal Sets of the Type of Action Tak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2742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x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28184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Im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09680" y="1981080"/>
            <a:ext cx="41148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456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Data-Item Has a Transaction Histo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46483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managed_data_item references every transaction it has ever participated in, during its DMC lif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5" name="datamanagement1-5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3886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3880" y="1828800"/>
            <a:ext cx="6629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3049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 Provides a Record of Who, What, When and Whe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8" name="datamanagement1-3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261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533520" y="4572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DMC Manager Applic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2120" y="2057400"/>
            <a:ext cx="1904760" cy="1219320"/>
            <a:chOff x="762120" y="2057400"/>
            <a:chExt cx="1904760" cy="1219320"/>
          </a:xfrm>
        </p:grpSpPr>
        <p:sp>
          <p:nvSpPr>
            <p:cNvPr id="361" name=""/>
            <p:cNvSpPr/>
            <p:nvPr/>
          </p:nvSpPr>
          <p:spPr>
            <a:xfrm>
              <a:off x="762120" y="2057400"/>
              <a:ext cx="190476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2640" y="2210040"/>
              <a:ext cx="1142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Basic</a:t>
              </a: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Part-2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ile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286000" y="2209680"/>
            <a:ext cx="3048120" cy="1218960"/>
            <a:chOff x="2286000" y="2209680"/>
            <a:chExt cx="3048120" cy="1218960"/>
          </a:xfrm>
        </p:grpSpPr>
        <p:sp>
          <p:nvSpPr>
            <p:cNvPr id="364" name=""/>
            <p:cNvSpPr/>
            <p:nvPr/>
          </p:nvSpPr>
          <p:spPr>
            <a:xfrm>
              <a:off x="2819520" y="2285640"/>
              <a:ext cx="2514600" cy="1008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MC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86000" y="2209680"/>
              <a:ext cx="1067040" cy="1218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029200" y="2209680"/>
            <a:ext cx="2590920" cy="1295280"/>
            <a:chOff x="5029200" y="2209680"/>
            <a:chExt cx="2590920" cy="1295280"/>
          </a:xfrm>
        </p:grpSpPr>
        <p:grpSp>
          <p:nvGrpSpPr>
            <p:cNvPr id="367" name=""/>
            <p:cNvGrpSpPr/>
            <p:nvPr/>
          </p:nvGrpSpPr>
          <p:grpSpPr>
            <a:xfrm>
              <a:off x="5715000" y="2209680"/>
              <a:ext cx="1905120" cy="1218960"/>
              <a:chOff x="5715000" y="2209680"/>
              <a:chExt cx="1905120" cy="1218960"/>
            </a:xfrm>
          </p:grpSpPr>
          <p:sp>
            <p:nvSpPr>
              <p:cNvPr id="368" name=""/>
              <p:cNvSpPr/>
              <p:nvPr/>
            </p:nvSpPr>
            <p:spPr>
              <a:xfrm>
                <a:off x="5715000" y="2209680"/>
                <a:ext cx="1905120" cy="121896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95880" y="2361960"/>
                <a:ext cx="1143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Times New Roman"/>
                  </a:rPr>
                  <a:t>DMC 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Part-21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File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029200" y="2285640"/>
              <a:ext cx="106704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144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800600" y="91440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2286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ollaborative Development of a DMC Application Interfa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800600" y="914400"/>
          <a:ext cx="294012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914400"/>
                    <a:ext cx="2940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533520" y="2895480"/>
            <a:ext cx="3886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hared functionality across applications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re-link all input data with outpu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 modification, creation, dele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pdate transaction lo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447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e minimal requirement of an application: track object I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76520" y="1752480"/>
            <a:ext cx="5562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unique ID to each Entity instance, allowing merg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dentifies who, when, where for all creations, modifications and dele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a transaction and version history for audit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808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does DMC Consist of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1676520"/>
            <a:ext cx="3810240" cy="2133360"/>
            <a:chOff x="838080" y="1676520"/>
            <a:chExt cx="3810240" cy="2133360"/>
          </a:xfrm>
        </p:grpSpPr>
        <p:sp>
          <p:nvSpPr>
            <p:cNvPr id="146" name=""/>
            <p:cNvSpPr/>
            <p:nvPr/>
          </p:nvSpPr>
          <p:spPr>
            <a:xfrm>
              <a:off x="2819520" y="1676520"/>
              <a:ext cx="1828800" cy="2133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838080" y="2133720"/>
              <a:ext cx="1571400" cy="1143000"/>
              <a:chOff x="838080" y="2133720"/>
              <a:chExt cx="1571400" cy="1143000"/>
            </a:xfrm>
          </p:grpSpPr>
          <p:sp>
            <p:nvSpPr>
              <p:cNvPr id="148" name=""/>
              <p:cNvSpPr/>
              <p:nvPr/>
            </p:nvSpPr>
            <p:spPr>
              <a:xfrm>
                <a:off x="838080" y="2133720"/>
                <a:ext cx="1571400" cy="114300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10960" y="2362320"/>
                <a:ext cx="1066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Part21 file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895480" y="1676520"/>
              <a:ext cx="1752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CIS/2 in-memory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full file datase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0" y="2362320"/>
              <a:ext cx="457200" cy="533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95480" y="1143000"/>
            <a:ext cx="4191120" cy="3507840"/>
            <a:chOff x="2895480" y="1143000"/>
            <a:chExt cx="4191120" cy="3507840"/>
          </a:xfrm>
        </p:grpSpPr>
        <p:sp>
          <p:nvSpPr>
            <p:cNvPr id="153" name=""/>
            <p:cNvSpPr/>
            <p:nvPr/>
          </p:nvSpPr>
          <p:spPr>
            <a:xfrm flipH="1" rot="7771200">
              <a:off x="4075920" y="1637640"/>
              <a:ext cx="1219320" cy="99036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14300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Data not read by application is lo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95480" y="2209680"/>
              <a:ext cx="3429000" cy="2441160"/>
              <a:chOff x="2895480" y="2209680"/>
              <a:chExt cx="3429000" cy="24411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95480" y="2209680"/>
                <a:ext cx="1676520" cy="609840"/>
              </a:xfrm>
              <a:prstGeom prst="rect">
                <a:avLst/>
              </a:prstGeom>
              <a:noFill/>
              <a:ln w="284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2286000"/>
                <a:ext cx="990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 not Rea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24280" y="3048120"/>
                <a:ext cx="457200" cy="5331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57800" y="2362320"/>
                <a:ext cx="1066680" cy="22885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Nativ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structur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2895480" y="2895480"/>
                <a:ext cx="1752480" cy="838080"/>
                <a:chOff x="2895480" y="2895480"/>
                <a:chExt cx="1752480" cy="8380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895480" y="304776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33"/>
                      </a:solidFill>
                      <a:latin typeface="Times New Roman"/>
                    </a:rPr>
                    <a:t>Extracted data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95480" y="2895480"/>
                  <a:ext cx="1676160" cy="838080"/>
                </a:xfrm>
                <a:prstGeom prst="rect">
                  <a:avLst/>
                </a:prstGeom>
                <a:noFill/>
                <a:ln w="1908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" name=""/>
          <p:cNvGrpSpPr/>
          <p:nvPr/>
        </p:nvGrpSpPr>
        <p:grpSpPr>
          <a:xfrm>
            <a:off x="685800" y="2438280"/>
            <a:ext cx="7696080" cy="3353040"/>
            <a:chOff x="685800" y="2438280"/>
            <a:chExt cx="7696080" cy="3353040"/>
          </a:xfrm>
        </p:grpSpPr>
        <p:grpSp>
          <p:nvGrpSpPr>
            <p:cNvPr id="164" name=""/>
            <p:cNvGrpSpPr/>
            <p:nvPr/>
          </p:nvGrpSpPr>
          <p:grpSpPr>
            <a:xfrm>
              <a:off x="6705720" y="2438280"/>
              <a:ext cx="1676160" cy="2210040"/>
              <a:chOff x="6705720" y="2438280"/>
              <a:chExt cx="1676160" cy="2210040"/>
            </a:xfrm>
          </p:grpSpPr>
          <p:sp>
            <p:nvSpPr>
              <p:cNvPr id="165" name=""/>
              <p:cNvSpPr/>
              <p:nvPr/>
            </p:nvSpPr>
            <p:spPr>
              <a:xfrm>
                <a:off x="6858000" y="2438280"/>
                <a:ext cx="1447920" cy="221004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705720" y="3124080"/>
                <a:ext cx="1676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85800" y="4267080"/>
              <a:ext cx="1905120" cy="1143000"/>
              <a:chOff x="685800" y="4267080"/>
              <a:chExt cx="1905120" cy="114300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133720" y="4495680"/>
                <a:ext cx="457200" cy="5335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85800" y="4267080"/>
                <a:ext cx="1571400" cy="1143000"/>
                <a:chOff x="685800" y="4267080"/>
                <a:chExt cx="1571400" cy="1143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85800" y="4267080"/>
                  <a:ext cx="1571400" cy="11430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958680" y="4495680"/>
                  <a:ext cx="1066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2743200" y="4038480"/>
              <a:ext cx="1905120" cy="1752840"/>
              <a:chOff x="2743200" y="4038480"/>
              <a:chExt cx="1905120" cy="1752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743200" y="4038480"/>
                <a:ext cx="1905120" cy="1752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19520" y="4038480"/>
                <a:ext cx="1752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95480" y="4724280"/>
                <a:ext cx="1524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95480" y="4724280"/>
                <a:ext cx="1676520" cy="99072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>
              <a:off x="4648320" y="3809880"/>
              <a:ext cx="45720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2666880"/>
              <a:ext cx="838080" cy="16765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257800" y="3809880"/>
              <a:ext cx="1066680" cy="838440"/>
              <a:chOff x="5257800" y="3809880"/>
              <a:chExt cx="1066680" cy="838440"/>
            </a:xfrm>
          </p:grpSpPr>
          <p:sp>
            <p:nvSpPr>
              <p:cNvPr id="180" name=""/>
              <p:cNvSpPr/>
              <p:nvPr/>
            </p:nvSpPr>
            <p:spPr>
              <a:xfrm>
                <a:off x="5334120" y="3886200"/>
                <a:ext cx="914400" cy="76212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57800" y="3809880"/>
                <a:ext cx="1066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Application Generate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10666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Physical members, connections, non-structural dat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981080" y="1469880"/>
            <a:ext cx="4648320" cy="2022480"/>
            <a:chOff x="1981080" y="1469880"/>
            <a:chExt cx="4648320" cy="2022480"/>
          </a:xfrm>
        </p:grpSpPr>
        <p:grpSp>
          <p:nvGrpSpPr>
            <p:cNvPr id="185" name=""/>
            <p:cNvGrpSpPr/>
            <p:nvPr/>
          </p:nvGrpSpPr>
          <p:grpSpPr>
            <a:xfrm>
              <a:off x="2057400" y="1676520"/>
              <a:ext cx="2300400" cy="914400"/>
              <a:chOff x="2057400" y="1676520"/>
              <a:chExt cx="2300400" cy="914400"/>
            </a:xfrm>
          </p:grpSpPr>
          <p:sp>
            <p:nvSpPr>
              <p:cNvPr id="186" name=""/>
              <p:cNvSpPr/>
              <p:nvPr/>
            </p:nvSpPr>
            <p:spPr>
              <a:xfrm>
                <a:off x="3253680" y="1676520"/>
                <a:ext cx="110412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2057400" y="1872360"/>
                <a:ext cx="948960" cy="494280"/>
                <a:chOff x="2057400" y="1872360"/>
                <a:chExt cx="948960" cy="494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057400" y="1872360"/>
                  <a:ext cx="948960" cy="48996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221920" y="19681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3298680" y="167652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31480" y="197028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 rot="7771200">
              <a:off x="4136040" y="156240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6320" y="1893960"/>
              <a:ext cx="1011240" cy="26172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182880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225252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95840" y="195912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316320" y="2187720"/>
              <a:ext cx="1057320" cy="360360"/>
              <a:chOff x="3316320" y="2187720"/>
              <a:chExt cx="1057320" cy="360360"/>
            </a:xfrm>
          </p:grpSpPr>
          <p:sp>
            <p:nvSpPr>
              <p:cNvPr id="198" name=""/>
              <p:cNvSpPr/>
              <p:nvPr/>
            </p:nvSpPr>
            <p:spPr>
              <a:xfrm>
                <a:off x="3316320" y="225252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16320" y="2187720"/>
                <a:ext cx="1011960" cy="36036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18160" y="1992240"/>
              <a:ext cx="1011240" cy="947880"/>
              <a:chOff x="5618160" y="1992240"/>
              <a:chExt cx="1011240" cy="947880"/>
            </a:xfrm>
          </p:grpSpPr>
          <p:sp>
            <p:nvSpPr>
              <p:cNvPr id="201" name=""/>
              <p:cNvSpPr/>
              <p:nvPr/>
            </p:nvSpPr>
            <p:spPr>
              <a:xfrm>
                <a:off x="5709240" y="1992240"/>
                <a:ext cx="874080" cy="94788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18160" y="22863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981080" y="2776680"/>
              <a:ext cx="1150560" cy="496800"/>
              <a:chOff x="1981080" y="2776680"/>
              <a:chExt cx="1150560" cy="49680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2855160" y="2874240"/>
                <a:ext cx="276120" cy="228240"/>
              </a:xfrm>
              <a:prstGeom prst="rightArrow">
                <a:avLst>
                  <a:gd name="adj1" fmla="val 50000"/>
                  <a:gd name="adj2" fmla="val 30244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981080" y="2776680"/>
                <a:ext cx="949320" cy="496800"/>
                <a:chOff x="1981080" y="2776680"/>
                <a:chExt cx="949320" cy="496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981080" y="2776680"/>
                  <a:ext cx="949320" cy="48888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145600" y="287496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3224160" y="2678040"/>
              <a:ext cx="1149480" cy="814320"/>
              <a:chOff x="3224160" y="2678040"/>
              <a:chExt cx="1149480" cy="814320"/>
            </a:xfrm>
          </p:grpSpPr>
          <p:sp>
            <p:nvSpPr>
              <p:cNvPr id="209" name=""/>
              <p:cNvSpPr/>
              <p:nvPr/>
            </p:nvSpPr>
            <p:spPr>
              <a:xfrm>
                <a:off x="3224160" y="2678040"/>
                <a:ext cx="1149480" cy="751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71680" y="267804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315960" y="297180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15960" y="2971800"/>
                <a:ext cx="1011600" cy="4248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4372920" y="257976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40240" y="2090880"/>
              <a:ext cx="506520" cy="7174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80880" y="1219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1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2057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590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38098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loads, reactions, elements &amp; nod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1080" y="4060800"/>
            <a:ext cx="4648320" cy="2022120"/>
            <a:chOff x="1981080" y="4060800"/>
            <a:chExt cx="4648320" cy="2022120"/>
          </a:xfrm>
        </p:grpSpPr>
        <p:grpSp>
          <p:nvGrpSpPr>
            <p:cNvPr id="221" name=""/>
            <p:cNvGrpSpPr/>
            <p:nvPr/>
          </p:nvGrpSpPr>
          <p:grpSpPr>
            <a:xfrm>
              <a:off x="2057400" y="4267080"/>
              <a:ext cx="2300400" cy="914040"/>
              <a:chOff x="2057400" y="4267080"/>
              <a:chExt cx="2300400" cy="914040"/>
            </a:xfrm>
          </p:grpSpPr>
          <p:sp>
            <p:nvSpPr>
              <p:cNvPr id="222" name=""/>
              <p:cNvSpPr/>
              <p:nvPr/>
            </p:nvSpPr>
            <p:spPr>
              <a:xfrm>
                <a:off x="3253680" y="4267080"/>
                <a:ext cx="1104120" cy="91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057400" y="4462920"/>
                <a:ext cx="948960" cy="494280"/>
                <a:chOff x="2057400" y="4462920"/>
                <a:chExt cx="948960" cy="4942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057400" y="4462920"/>
                  <a:ext cx="948960" cy="4896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221920" y="455868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298680" y="426708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31480" y="456084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 rot="7771200">
              <a:off x="4136040" y="415332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16320" y="4484520"/>
              <a:ext cx="1011240" cy="26136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441936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19720" y="484308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5840" y="454968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316320" y="4778280"/>
              <a:ext cx="1057320" cy="360000"/>
              <a:chOff x="3316320" y="4778280"/>
              <a:chExt cx="1057320" cy="360000"/>
            </a:xfrm>
          </p:grpSpPr>
          <p:sp>
            <p:nvSpPr>
              <p:cNvPr id="234" name=""/>
              <p:cNvSpPr/>
              <p:nvPr/>
            </p:nvSpPr>
            <p:spPr>
              <a:xfrm>
                <a:off x="3316320" y="484308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16320" y="4778280"/>
                <a:ext cx="1011960" cy="3600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618160" y="4582800"/>
              <a:ext cx="1011240" cy="947520"/>
              <a:chOff x="5618160" y="4582800"/>
              <a:chExt cx="1011240" cy="947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709240" y="4582800"/>
                <a:ext cx="874080" cy="94752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8160" y="48765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981080" y="5367240"/>
              <a:ext cx="1150560" cy="496800"/>
              <a:chOff x="1981080" y="5367240"/>
              <a:chExt cx="1150560" cy="49680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2855160" y="5464800"/>
                <a:ext cx="276120" cy="227880"/>
              </a:xfrm>
              <a:prstGeom prst="rightArrow">
                <a:avLst>
                  <a:gd name="adj1" fmla="val 50000"/>
                  <a:gd name="adj2" fmla="val 30292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981080" y="5367240"/>
                <a:ext cx="949320" cy="496800"/>
                <a:chOff x="1981080" y="5367240"/>
                <a:chExt cx="949320" cy="4968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981080" y="5367240"/>
                  <a:ext cx="949320" cy="48852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145600" y="54655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" name=""/>
            <p:cNvGrpSpPr/>
            <p:nvPr/>
          </p:nvGrpSpPr>
          <p:grpSpPr>
            <a:xfrm>
              <a:off x="3224160" y="5268600"/>
              <a:ext cx="1149480" cy="814320"/>
              <a:chOff x="3224160" y="5268600"/>
              <a:chExt cx="1149480" cy="814320"/>
            </a:xfrm>
          </p:grpSpPr>
          <p:sp>
            <p:nvSpPr>
              <p:cNvPr id="245" name=""/>
              <p:cNvSpPr/>
              <p:nvPr/>
            </p:nvSpPr>
            <p:spPr>
              <a:xfrm>
                <a:off x="3224160" y="5268600"/>
                <a:ext cx="1149480" cy="751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71680" y="526860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15960" y="556236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15960" y="5562360"/>
                <a:ext cx="1011600" cy="42444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>
              <a:off x="4372920" y="517032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40240" y="4681440"/>
              <a:ext cx="506520" cy="7171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088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2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4648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181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2952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Only Very Limited Workflows are Possib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57200" y="2209680"/>
            <a:ext cx="8077320" cy="703800"/>
            <a:chOff x="457200" y="2209680"/>
            <a:chExt cx="8077320" cy="703800"/>
          </a:xfrm>
        </p:grpSpPr>
        <p:sp>
          <p:nvSpPr>
            <p:cNvPr id="258" name=""/>
            <p:cNvSpPr/>
            <p:nvPr/>
          </p:nvSpPr>
          <p:spPr>
            <a:xfrm>
              <a:off x="45720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3828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9568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72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72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480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22860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295280" y="3429000"/>
            <a:ext cx="1654200" cy="1694520"/>
            <a:chOff x="1295280" y="3429000"/>
            <a:chExt cx="1654200" cy="1694520"/>
          </a:xfrm>
        </p:grpSpPr>
        <p:sp>
          <p:nvSpPr>
            <p:cNvPr id="266" name=""/>
            <p:cNvSpPr/>
            <p:nvPr/>
          </p:nvSpPr>
          <p:spPr>
            <a:xfrm>
              <a:off x="1295280" y="342900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5280" y="441972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134600">
              <a:off x="1676160" y="403812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5465400">
              <a:off x="2285640" y="40384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590920" y="3733920"/>
            <a:ext cx="2590560" cy="1389600"/>
            <a:chOff x="2590920" y="3733920"/>
            <a:chExt cx="2590560" cy="1389600"/>
          </a:xfrm>
        </p:grpSpPr>
        <p:sp>
          <p:nvSpPr>
            <p:cNvPr id="271" name=""/>
            <p:cNvSpPr/>
            <p:nvPr/>
          </p:nvSpPr>
          <p:spPr>
            <a:xfrm>
              <a:off x="335268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44956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0920" y="3733920"/>
              <a:ext cx="1066680" cy="838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503751"/>
                  <a:lnTo>
                    <a:pt x="10474" y="5"/>
                  </a:lnTo>
                  <a:arcTo wR="10800" hR="10800" stAng="-5503751" swAng="550375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181120" y="4343400"/>
            <a:ext cx="2210400" cy="990720"/>
            <a:chOff x="5181120" y="4343400"/>
            <a:chExt cx="2210400" cy="990720"/>
          </a:xfrm>
        </p:grpSpPr>
        <p:sp>
          <p:nvSpPr>
            <p:cNvPr id="275" name=""/>
            <p:cNvSpPr/>
            <p:nvPr/>
          </p:nvSpPr>
          <p:spPr>
            <a:xfrm>
              <a:off x="556272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1480" y="48006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180760" y="43434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133720" y="4495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NOT SUPPORTED!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3200400" y="3429000"/>
            <a:ext cx="3886200" cy="2514600"/>
            <a:chOff x="3200400" y="3429000"/>
            <a:chExt cx="3886200" cy="2514600"/>
          </a:xfrm>
        </p:grpSpPr>
        <p:sp>
          <p:nvSpPr>
            <p:cNvPr id="281" name=""/>
            <p:cNvSpPr/>
            <p:nvPr/>
          </p:nvSpPr>
          <p:spPr>
            <a:xfrm>
              <a:off x="3200400" y="3429000"/>
              <a:ext cx="3886200" cy="2514600"/>
            </a:xfrm>
            <a:custGeom>
              <a:avLst/>
              <a:gdLst/>
              <a:ahLst/>
              <a:rect l="l" t="t" r="r" b="b"/>
              <a:pathLst>
                <a:path w="2448" h="1584">
                  <a:moveTo>
                    <a:pt x="48" y="0"/>
                  </a:moveTo>
                  <a:lnTo>
                    <a:pt x="1296" y="0"/>
                  </a:lnTo>
                  <a:lnTo>
                    <a:pt x="2448" y="768"/>
                  </a:lnTo>
                  <a:lnTo>
                    <a:pt x="2448" y="1584"/>
                  </a:lnTo>
                  <a:lnTo>
                    <a:pt x="1104" y="1584"/>
                  </a:lnTo>
                  <a:lnTo>
                    <a:pt x="816" y="864"/>
                  </a:lnTo>
                  <a:lnTo>
                    <a:pt x="0" y="86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5efd5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76920" y="3962520"/>
              <a:ext cx="1143000" cy="459720"/>
            </a:xfrm>
            <a:prstGeom prst="rect">
              <a:avLst/>
            </a:prstGeom>
            <a:solidFill>
              <a:srgbClr val="d5e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ahoma"/>
                </a:rPr>
                <a:t>merg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Merging of multiple files into a single o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49528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134600">
            <a:off x="2285640" y="44953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 rot="5465400">
            <a:off x="3809880" y="44956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676520" y="3352680"/>
            <a:ext cx="1600200" cy="1219320"/>
            <a:chOff x="1676520" y="3352680"/>
            <a:chExt cx="1600200" cy="1219320"/>
          </a:xfrm>
        </p:grpSpPr>
        <p:sp>
          <p:nvSpPr>
            <p:cNvPr id="290" name=""/>
            <p:cNvSpPr/>
            <p:nvPr/>
          </p:nvSpPr>
          <p:spPr>
            <a:xfrm>
              <a:off x="1676520" y="3352680"/>
              <a:ext cx="160020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5120" y="3352680"/>
              <a:ext cx="106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, layout &amp; load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352680" y="3581280"/>
            <a:ext cx="1555560" cy="990720"/>
            <a:chOff x="3352680" y="3581280"/>
            <a:chExt cx="1555560" cy="990720"/>
          </a:xfrm>
        </p:grpSpPr>
        <p:sp>
          <p:nvSpPr>
            <p:cNvPr id="293" name=""/>
            <p:cNvSpPr/>
            <p:nvPr/>
          </p:nvSpPr>
          <p:spPr>
            <a:xfrm>
              <a:off x="3352680" y="3581280"/>
              <a:ext cx="1523880" cy="9907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1280" y="3581280"/>
              <a:ext cx="132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 w/ reaction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029200" y="4648320"/>
            <a:ext cx="1752480" cy="121896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4648320"/>
            <a:ext cx="13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 rot="5465400">
            <a:off x="3733560" y="3047040"/>
            <a:ext cx="53316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5029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429000" y="3429000"/>
            <a:ext cx="304812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312408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2952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Running an application on a dataset without any loss of unread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51814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134600">
            <a:off x="22096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 rot="5465400">
            <a:off x="38098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3352680"/>
            <a:ext cx="228600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3352680"/>
            <a:ext cx="21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42900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Times New Roman"/>
              </a:rPr>
              <a:t>w/ reactions added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 rot="5465400">
            <a:off x="3771720" y="30099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25909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out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4114800" y="4876920"/>
            <a:ext cx="1905120" cy="1218960"/>
            <a:chOff x="4114800" y="4876920"/>
            <a:chExt cx="1905120" cy="1218960"/>
          </a:xfrm>
        </p:grpSpPr>
        <p:sp>
          <p:nvSpPr>
            <p:cNvPr id="316" name=""/>
            <p:cNvSpPr/>
            <p:nvPr/>
          </p:nvSpPr>
          <p:spPr>
            <a:xfrm>
              <a:off x="4114800" y="4876920"/>
              <a:ext cx="190512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9720" y="4876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w/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Incremental update of datase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3809880"/>
            <a:ext cx="106704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4114800"/>
            <a:ext cx="26672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hop draw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388620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4114800"/>
            <a:ext cx="26668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abrication managemen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33920" y="2133720"/>
            <a:ext cx="2245680" cy="2879280"/>
            <a:chOff x="3733920" y="2133720"/>
            <a:chExt cx="2245680" cy="2879280"/>
          </a:xfrm>
        </p:grpSpPr>
        <p:sp>
          <p:nvSpPr>
            <p:cNvPr id="325" name=""/>
            <p:cNvSpPr/>
            <p:nvPr/>
          </p:nvSpPr>
          <p:spPr>
            <a:xfrm rot="969600">
              <a:off x="4038480" y="3200040"/>
              <a:ext cx="1752840" cy="160020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67" y="15076"/>
                  </a:moveTo>
                  <a:arcTo wR="-7477" hR="-7477" stAng="8706805" swAng="-8792921"/>
                  <a:lnTo>
                    <a:pt x="3" y="11071"/>
                  </a:lnTo>
                  <a:arcTo wR="10800" hR="10800" stAng="10713884" swAng="8792921"/>
                  <a:lnTo>
                    <a:pt x="21874" y="3079"/>
                  </a:lnTo>
                  <a:lnTo>
                    <a:pt x="20791" y="9151"/>
                  </a:lnTo>
                  <a:lnTo>
                    <a:pt x="14719" y="8068"/>
                  </a:lnTo>
                  <a:close/>
                </a:path>
              </a:pathLst>
            </a:cu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3920" y="2133720"/>
              <a:ext cx="220968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62520" y="213372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update: changed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28600" y="51814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Also 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90720" y="1371600"/>
            <a:ext cx="7086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6708600" cy="2987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733920" y="5713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pplic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authorizing organiz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47232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ll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SW compan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50281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nce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local install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6151200">
            <a:off x="2171520" y="453384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3262800">
            <a:off x="6705720" y="4038480"/>
            <a:ext cx="1066680" cy="457200"/>
          </a:xfrm>
          <a:prstGeom prst="leftArrow">
            <a:avLst>
              <a:gd name="adj1" fmla="val 50000"/>
              <a:gd name="adj2" fmla="val 58327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6921600">
            <a:off x="4255560" y="4903560"/>
            <a:ext cx="1295640" cy="457200"/>
          </a:xfrm>
          <a:prstGeom prst="leftArrow">
            <a:avLst>
              <a:gd name="adj1" fmla="val 50000"/>
              <a:gd name="adj2" fmla="val 70846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209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nique ID is three integers, assigned by different grou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5:12:53Z</dcterms:created>
  <dc:creator>Eastman</dc:creator>
  <dc:description/>
  <dc:language>en-US</dc:language>
  <cp:lastModifiedBy>fwang</cp:lastModifiedBy>
  <dcterms:modified xsi:type="dcterms:W3CDTF">2002-05-06T15:45:39Z</dcterms:modified>
  <cp:revision>9</cp:revision>
  <dc:subject/>
  <dc:title>No Slide Title</dc:title>
</cp:coreProperties>
</file>